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9BF-2E8E-4BEC-9558-BC0EB2B5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FD43-3A3E-4E98-AB43-2EE61BA5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97ED-C7C6-4D00-A6C0-C973858D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12C-1C9C-4978-BED4-1296D3A2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1455-4569-4F48-8B83-DE38590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F90A-D7BA-47B9-A19C-52FBC3AC8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4FA5-2CCA-4D58-9A7E-91137335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403-0B2A-420B-8AB2-F4863A39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6DB-4F19-4DB5-8CA9-D2471E34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8998-9095-4812-85A7-91FDA89C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996D-0558-4010-AD42-28885EBD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C230-36F7-491D-A4F6-05881155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5F09-E12D-4D34-B0FA-97F26F35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393C-1587-45AD-9F93-6C253849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1122-19F0-4401-88BC-8FBD81C2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F123-3E86-4E3A-87CF-1987FB2A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FD8A-8FFC-4C18-8093-BA14C819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1BFEF-C196-462E-9D1E-5B63DD55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8AD28-D181-4753-99DC-AB9B6B51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F00D7-9B4A-4BD7-9598-2622E76A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7E1A4-4D4C-4619-B50A-02B4D2EF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EFB93-8E18-40C7-B78A-FAB74A9C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599-E9EB-4A75-A051-C3AA2B470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AE7A1-4A8E-4787-A815-FFB208DF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006D8-04FB-4158-BEE1-D6E52F8D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AF609-E6AD-4B55-AF22-B8E18B6F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D2308-A568-431A-B9E4-3A9A9A42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B590-9D3E-42C7-B945-70A4C869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62A02-6C0A-4257-8A31-B6EBE772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9B52E-2621-418E-AF41-489CB507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1FFC-EDE1-41EB-9E1A-23FB95553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C001E-F5B1-4418-A228-50EC79A3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4A9B5-3133-4995-9218-673B4154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6D7C-9FE5-4801-9A58-198324B3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1DAF3-4B1C-4C71-A570-16B117C7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44DF-4626-474A-921E-F9333474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181E-BD06-494C-81F9-05624DDA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F9616-FF66-4DED-B325-BECEABD5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6590-085C-49A1-9DBB-1FAFA9FD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302E1-B6CD-419C-911F-5D61A591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2C91C-9D2A-4CAF-81F6-0D5E65B8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AFED4-8908-4BF7-9C6E-E89AC2BA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BF449-6E73-4B86-AF0A-7715378C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419DB-4DA9-49C6-972E-B32F7FF9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D2EB-274D-4353-A257-EC3222F1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E5EEA-65AA-4A1D-AFA4-B8CDDB27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2F1D8-BAC0-40F9-A9D1-27D9D7E1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2F6E6-C4B2-441D-99DE-4D6DF791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B136-3F48-4B5E-86D9-55BF0818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562FA-2576-4445-8C32-AAE73CDD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0C24C-0451-4844-8360-18914199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2E2BB-73AA-49D7-87FF-C688583C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9E84-6AF5-4225-825E-BFC33CA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690A6-A9B6-4836-8EDF-0FA30507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0D131-D339-4618-8489-E688A601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174-5DF9-4E11-B948-3FCE7A1A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96420-78A3-4115-9895-1752361A5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9C4BA-CE9F-44DF-A8E8-05026B83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A75E8-F19D-4B22-AB38-1341CF9F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E39FD-42DB-44C7-A16C-3E2D5D90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1F18E-F031-4C30-9D03-4C33D562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F863A-89FF-435D-BB21-41E6AD75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4C106-E40F-49ED-8C84-A5930216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551C-2E85-46AA-92BC-E75856F0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13B2-D498-416B-9BEE-0BFA4BAB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926FA-4A09-410A-A194-444AA9DB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58F2-0D49-4109-A7D6-205CB30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14D56-E6A0-4BE8-8B24-9D1D33A4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0D67-02E1-4BA2-90DF-60380D8C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3B3B-6A50-48D4-AB67-B140489F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386-D847-4549-B1E5-33C115BC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DFAF-B2E7-4F89-B520-27018A08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EE1231D-AC51-478B-9534-0C7C42D7737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AC0377-C2DF-4213-A260-84811E3D120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90F4311-7D56-41D5-B437-A2D40C5F1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77D15AE-E4B0-4B6D-B38C-B84C4F170E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E4E778-1435-4211-B562-12F87CD5E0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B591E09-6A06-48A3-B4B1-658177F08F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56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2610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7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9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3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4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300"/>
            </a:br>
            <a:r>
              <a:rPr b="1" lang="en-US" sz="1300" spc="-1" strike="noStrike">
                <a:solidFill>
                  <a:srgbClr val="006666"/>
                </a:solidFill>
                <a:latin typeface="Arial"/>
              </a:rPr>
              <a:t>511,3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65 млн.руб. (местный бюджет – 118,0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8,03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7,9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3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9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6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 (по состоянию на 01.10.2017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,5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81976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4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9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499,3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79,78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0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 по состоянию на 01.10.20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30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1,3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7-11-03T02:00:30Z</dcterms:modified>
  <cp:revision>107</cp:revision>
  <dc:subject/>
  <dc:title>Структура собственных доходов на 2016 год бюджета Дальнереченского городского округа</dc:title>
</cp:coreProperties>
</file>